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5A4-BB93-42CD-834D-AA73BE98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54B-31A7-45E3-84D8-9DE7522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32C-F572-4888-A22C-6273C40E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069-32CC-4DE6-9020-A6B75B76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536-1CC4-44BA-B0C7-A75A495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0B2-BCF0-4C47-ADF6-6F55792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4AC-3B79-4726-8895-698C419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D1D-219D-4537-8A61-2B991FBC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983-257E-4865-9490-B2E6B91B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CF1-96BB-40B1-B5DA-808E680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2CE-C794-4C8F-84B8-D3FDCB5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DE5-2B6E-4E37-8EC9-563D553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7421-C16B-416E-9F33-1F6D5F4F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entaloutpost.com/usa/n7425.jpg&amp;imgrefurl=http://www.orientaloutpost.com/proddetail.php%3Fprod%3Dbatik-carry&amp;usg=__xijxcLNuc5pS9pZWGTqrXParvgc=&amp;h=500&amp;w=462&amp;sz=65&amp;hl=en&amp;start=13&amp;tbnid=kxTsuDB-09ydDM:&amp;tbnh=130&amp;tbnw=120&amp;prev=/images%3Fq%3Dchinese%2Bwoman%2Bwith%2B2%2Bjug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argate.com/226_auction/226_pics/2820.jpg&amp;imgrefurl=http://www.dargate.com/226_auction/226_pics/226_porcelain.htm&amp;usg=__wfXazOIJ406l0OxpDasqgslgwTQ=&amp;h=504&amp;w=643&amp;sz=321&amp;hl=en&amp;start=7&amp;tbnid=ot3Xi5BcnBR4HM:&amp;tbnh=107&amp;tbnw=137&amp;prev=/images%3Fq%3Dchinese%2Bwoman%2Bwith%2B2%2Bjugs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folliesofeurope.com/album/UK%2520Ireland/slides/STOWE%2520CHINESE%2520HOUSE.jpg&amp;imgrefurl=http://folliesofeurope.com/album/html.php&amp;usg=__2B0QT_pfFYc7i_SPTNA6nMa8FPY=&amp;h=767&amp;w=1153&amp;sz=244&amp;hl=en&amp;start=3&amp;um=1&amp;tbnid=ywi2Id6qoskASM:&amp;tbnh=100&amp;tbnw=150&amp;prev=/images%3Fq%3Dchinese%2Bhouse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udson.lib.oh.us/Hudson%2520Website/Archives/Archives/Galleries/Stoneware%2520Gallery/Babcock%2520Brown%2520Jug/mdBabcock%2520brown%2520Jug.JPG&amp;imgrefurl=http://www.hudson.lib.oh.us/Hudson%2520Website/Archives/Archives/Galleries/Stoneware%2520Gallery/stoneware_gallery.htm&amp;usg=__65oOscxS5Kge-ENzN-wgypuDxts=&amp;h=867&amp;w=650&amp;sz=36&amp;hl=en&amp;start=42&amp;um=1&amp;tbnid=5ogfCx9zKU7OvM:&amp;tbnh=145&amp;tbnw=109&amp;prev=/images%3Fq%3Djug%26start%3D4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theatrewinterhaven.com/season33/Les-Miserable.gif&amp;imgrefurl=http://www.theatrewinterhaven.com/about.asp&amp;usg=__7_oj3uVBZyoMZj09G3SbC1X9OU8=&amp;h=406&amp;w=270&amp;sz=58&amp;hl=en&amp;start=19&amp;um=1&amp;tbnid=arCS-4fD-sOESM:&amp;tbnh=124&amp;tbnw=82&amp;prev=/images%3Fq%3Dmiserable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images.elfwood.com/art/c/l/cloutierm/miserable.jpg&amp;imgrefurl=http://www.elfwood.com/art/c/l/cloutierm/miserable.jpg.html&amp;usg=__4Vd0epHHG1vhfXWkZmDBrTAIln8=&amp;h=426&amp;w=328&amp;sz=37&amp;hl=en&amp;start=2&amp;um=1&amp;tbnid=Y4_xxKpAtKCNqM:&amp;tbnh=126&amp;tbnw=97&amp;prev=/images%3Fq%3Dmiserable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grassfield.org/blogimages/ashamed2pl.jpg&amp;imgrefurl=http://blog.grassfield.org/author/pandian/page/9/&amp;usg=__AOi_HRMf6BCr5rpLemZkzIMAICQ=&amp;h=544&amp;w=424&amp;sz=79&amp;hl=en&amp;start=2&amp;um=1&amp;tbnid=nsDuUIDrJO3VlM:&amp;tbnh=133&amp;tbnw=104&amp;prev=/images%3Fq%3Dashamed%26um%3D1%26hl%3Den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mentalfloss.com/wp-content/uploads/2007/08/435_AmericanCrossEyedFaceJug.JPG&amp;imgrefurl=http://www.mentalfloss.com/blogs/archives/7514&amp;usg=__Xuxx1etoWi6sjGRsDXndsPpIkCA=&amp;h=437&amp;w=435&amp;sz=37&amp;hl=en&amp;start=21&amp;um=1&amp;tbnid=vzUUxQMt9jBf7M:&amp;tbnh=126&amp;tbnw=125&amp;prev=/images%3Fq%3Djug%26start%3D20%26ndsp%3D20%26um%3D1%26hl%3Den%26sa%3DN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mentalfloss.com/wp-content/uploads/2007/08/435_AmericanCrossEyedFaceJug.JPG&amp;imgrefurl=http://www.mentalfloss.com/blogs/archives/7514&amp;usg=__Xuxx1etoWi6sjGRsDXndsPpIkCA=&amp;h=437&amp;w=435&amp;sz=37&amp;hl=en&amp;start=21&amp;um=1&amp;tbnid=vzUUxQMt9jBf7M:&amp;tbnh=126&amp;tbnw=125&amp;prev=/images%3Fq%3Djug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ldmp.com/destinedforglory.jpg&amp;imgrefurl=http://www.oldmp.com/destinedforglory.htm&amp;usg=__esWVkCz-8IYe-FW_Gaq3I3F5VZU=&amp;h=466&amp;w=300&amp;sz=27&amp;hl=en&amp;start=13&amp;um=1&amp;tbnid=BL9B-JPX6Tk-qM:&amp;tbnh=128&amp;tbnw=82&amp;prev=/images%3Fq%3Ddestined%26um%3D1%26hl%3De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24&amp;um=1&amp;tbnid=0qsw7hPiZtSWcM:&amp;tbnh=74&amp;tbnw=135&amp;prev=/images%3Fq%3Driver%2Bin%2Bchina%26start%3D2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bp0.blogger.com/_ywDXd647l4Q/RqqSDkSyowI/AAAAAAAAAAM/AnEy06rOpRI/s320/yellowriver.jpg&amp;imgrefurl=http://synergyhumanities.blogspot.com/2007/07/famous-rivers-of-world.html&amp;usg=__ZTH4KqJTJhX85yjbQQ80hLzTKpM=&amp;h=231&amp;w=320&amp;sz=22&amp;hl=en&amp;start=107&amp;um=1&amp;tbnid=-TXWZq75wm5CxM:&amp;tbnh=85&amp;tbnw=118&amp;prev=/images%3Fq%3Driver%2Bin%2Bchina%26start%3D10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escubre.files.wordpress.com/2007/05/failure2.jpg&amp;imgrefurl=http://changingthecourt.blogspot.com/2007_11_01_archive.html&amp;usg=__kKhcyPKAVkFDfn9ODiQpZcXQd8Q=&amp;h=600&amp;w=800&amp;sz=118&amp;hl=en&amp;start=8&amp;um=1&amp;tbnid=LoWbXeQQwjqS8M:&amp;tbnh=107&amp;tbnw=143&amp;prev=/images%3Fq%3D2%2Byears%2Bof%2Bfailure%26um%3D1%26hl%3Den%26sa%3DX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tricitypsychology.com/blog/wp-content/uploads/2008/08/chinese-older-woman.jpg&amp;imgrefurl=http://www.tricitypsychology.com/blog/%3Fm%3D20080821&amp;usg=__8nWQVVJelkNRO0C0mV_rDYFg3zY=&amp;h=311&amp;w=285&amp;sz=70&amp;hl=en&amp;start=1&amp;um=1&amp;tbnid=W8hzs_AwTdyUlM:&amp;tbnh=117&amp;tbnw=107&amp;prev=/images%3Fq%3Dchinese%2Bolder%2Bwoman%26um%3D1%26hl%3Den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rgate.com/226_auction/226_pics/2820.jpg&amp;imgrefurl=http://www.dargate.com/226_auction/226_pics/226_porcelain.htm&amp;usg=__wfXazOIJ406l0OxpDasqgslgwTQ=&amp;h=504&amp;w=643&amp;sz=321&amp;hl=en&amp;start=7&amp;tbnid=ot3Xi5BcnBR4HM:&amp;tbnh=107&amp;tbnw=137&amp;prev=/images%3Fq%3Dchinese%2Bwoman%2Bwith%2B2%2Bjug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erplane.com/directory/assets/images/embarrased_smiley.png&amp;imgrefurl=http://www.userplane.com/directory/index.cfm%3Faction%3Ddomain.viewDomain%26domainID%3D178865&amp;usg=__mPf3KPJpoFJZT91saQvn9SrMRTY=&amp;h=250&amp;w=250&amp;sz=67&amp;hl=en&amp;start=13&amp;um=1&amp;tbnid=_AJe_1QHARz25M:&amp;tbnh=111&amp;tbnw=111&amp;prev=/images%3Fq%3Dembarrased%26um%3D1%26hl%3De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6.travelblog.org/Photos/75336/291456/t/2487001-Dirt-Road-and-Flowers-0.jpg&amp;imgrefurl=http://www.travelblog.org/Africa/South-Africa/Western-Cape/blog-291456.html&amp;usg=__x4EW-hDar1i3FfyUTuxlsVJDLGA=&amp;h=200&amp;w=300&amp;sz=26&amp;hl=en&amp;start=18&amp;um=1&amp;tbnid=UfNPVdFn3GYSpM:&amp;tbnh=77&amp;tbnw=116&amp;prev=/images%3Fq%3Droad%2Bwith%2Bflowers%26um%3D1%26hl%3Den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24&amp;um=1&amp;tbnid=0qsw7hPiZtSWcM:&amp;tbnh=74&amp;tbnw=135&amp;prev=/images%3Fq%3Driver%2Bin%2Bchina%26start%3D2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3valleys.co.uk/water_efficiency/images/dripping_tap1.gif&amp;imgrefurl=http://www.3valleys.co.uk/water_efficiency/ah_we_watereffhome.shtml&amp;usg=__VPuL6V7H61cQ_HaecVJrgGE7mYQ=&amp;h=75&amp;w=75&amp;sz=4&amp;hl=en&amp;start=79&amp;um=1&amp;tbnid=1A3eQ2CuUVk6uM:&amp;tbnh=71&amp;tbnw=71&amp;prev=/images%3Fq%3Dwater%2Bdripping%2Bform%2Bjug%26start%3D60%26ndsp%3D20%26um%3D1%26hl%3Den%26sa%3DN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icitypsychology.com/blog/wp-content/uploads/2008/08/chinese-older-woman.jpg&amp;imgrefurl=http://www.tricitypsychology.com/blog/%3Fm%3D20080821&amp;usg=__8nWQVVJelkNRO0C0mV_rDYFg3zY=&amp;h=311&amp;w=285&amp;sz=70&amp;hl=en&amp;start=1&amp;um=1&amp;tbnid=W8hzs_AwTdyUlM:&amp;tbnh=117&amp;tbnw=107&amp;prev=/images%3Fq%3Dchinese%2Bolder%2Bwoman%26um%3D1%26hl%3Den%26sa%3D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upload.wikimedia.org/wikipedia/commons/thumb/6/69/SMirC-smile.svg/320px-SMirC-smile.svg.png&amp;imgrefurl=http://commons.wikimedia.org/wiki/Image:SMirC-smile.svg&amp;usg=__ikt9ncUMqu1loOpfn9UZPcVKRv0=&amp;h=320&amp;w=320&amp;sz=28&amp;hl=en&amp;start=3&amp;um=1&amp;tbnid=Wl9XsWltYzMGsM:&amp;tbnh=118&amp;tbnw=118&amp;prev=/images%3Fq%3Dsmile%26um%3D1%26hl%3Den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admous.org/souwar/b/batroun_flowers.jpg&amp;imgrefurl=http://kadmous.org/majd/2005/07/batroun-road-of-flowers.shtml&amp;usg=__xeC4nNZVPfP6ZhintR9If9F9pog=&amp;h=741&amp;w=1024&amp;sz=231&amp;hl=en&amp;start=1&amp;um=1&amp;tbnid=FXGe_H_E3CEpaM:&amp;tbnh=109&amp;tbnw=150&amp;prev=/images%3Fq%3Droad%2Bwith%2Bflowers%26um%3D1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6.travelblog.org/Photos/75336/291456/t/2487001-Dirt-Road-and-Flowers-0.jpg&amp;imgrefurl=http://www.travelblog.org/Africa/South-Africa/Western-Cape/blog-291456.html&amp;usg=__x4EW-hDar1i3FfyUTuxlsVJDLGA=&amp;h=200&amp;w=300&amp;sz=26&amp;hl=en&amp;start=18&amp;um=1&amp;tbnid=UfNPVdFn3GYSpM:&amp;tbnh=77&amp;tbnw=116&amp;prev=/images%3Fq%3Droad%2Bwith%2Bflowers%26um%3D1%26hl%3De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printablecoloringpages.net/thumbs/Gardening/Woman_Planting_Seeds.png&amp;imgrefurl=http://www.freeprintablecoloringpages.net/category/Gardening&amp;usg=__m5ij8_mG0Vvbm-yuPQzBZYX2UKw=&amp;h=150&amp;w=150&amp;sz=5&amp;hl=en&amp;start=4&amp;um=1&amp;tbnid=Fhr1cpiZhS3_3M:&amp;tbnh=96&amp;tbnw=96&amp;prev=/images%3Fq%3Dwoman%2B%2Bsawing%2B%2Bseeds%26um%3D1%26hl%3De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ghland-outdoor.com/blog/wp-content/uploads/2008/08/f_impatiens_jambalayaformmix.jpg&amp;imgrefurl=http://www.highland-outdoor.com/blog/&amp;usg=__ZRqvpf79pDCP1wmpTkuxjmpx9NU=&amp;h=1200&amp;w=900&amp;sz=808&amp;hl=en&amp;start=42&amp;um=1&amp;tbnid=PeeHQY2OHl8odM:&amp;tbnh=150&amp;tbnw=113&amp;prev=/images%3Fq%3Dirrigate%2Bflowers%26start%3D4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natural-escapes.com/irrigationFlowers1.jpg&amp;imgrefurl=http://www.natural-escapes.com/irrigation.htm&amp;usg=__loarjFMcNFgbet-12F9g8-RyjX0=&amp;h=299&amp;w=300&amp;sz=27&amp;hl=en&amp;start=4&amp;um=1&amp;tbnid=tq3hwNSFPAq-4M:&amp;tbnh=116&amp;tbnw=116&amp;prev=/images%3Fq%3Dirrigate%2Bflowers%26um%3D1%26hl%3Den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google.com/imgres?imgurl=http://www.nacdnet.org/education/clipart/WaterFlowers.jpg&amp;imgrefurl=http://www.nacdnet.org/education/clipart/&amp;usg=__9alreDbht0Uem7HPkjuX982IcUo=&amp;h=1429&amp;w=1654&amp;sz=223&amp;hl=en&amp;start=7&amp;um=1&amp;tbnid=r6yNnNcMFXzhQM:&amp;tbnh=130&amp;tbnw=150&amp;prev=/images%3Fq%3Dwoman%2B%2Bwaters%2Bflowers%26um%3D1%26hl%3Den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coxnewsweb.com/B/07/17/32/image_7232177.jpg&amp;imgrefurl=http://www.oxfordpress.com/n/content/oh/story/news/local/2008/06/29/ddn063008farmersmarket.html&amp;usg=__Ros7WdvMrHuaZphIn3AOiT62CaE=&amp;h=413&amp;w=310&amp;sz=33&amp;hl=en&amp;start=19&amp;um=1&amp;tbnid=SMdN7DiB7ZvRMM:&amp;tbnh=125&amp;tbnw=94&amp;prev=/images%3Fq%3Dwoman%2Bpicks%2Bflowers%2Bon%2Broad%26um%3D1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3041745/2/istockphoto_3041745_myanmar_woman_carrying_water_cans.jpg&amp;imgrefurl=http://www.istockphoto.com/file_closeup/gender/female/women/3041745_myanmar_woman_carrying_water_cans.php%3Fid%3D3041745&amp;usg=__2y6WT0c1uxffySdPSdxct-UEJAo=&amp;h=380&amp;w=253&amp;sz=57&amp;hl=en&amp;start=76&amp;tbnid=Du19sXjC9DX-uM:&amp;tbnh=123&amp;tbnw=82&amp;prev=/images%3Fq%3Dwoman%2Bcarrying%2B%2Bwater%26start%3D6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lissajill.com/uploaded_images/Steen_078-778732.jpg&amp;imgrefurl=http://www.melissajill.com/blog.html&amp;usg=__IdyHvfR3lXjxy-pOdzsG10QcSh0=&amp;h=315&amp;w=461&amp;sz=86&amp;hl=en&amp;start=25&amp;um=1&amp;tbnid=xcxCQryVwL_6pM:&amp;tbnh=87&amp;tbnw=128&amp;prev=/images%3Fq%3Dflowers%2Bon%2Btable%26start%3D20%26ndsp%3D20%26um%3D1%26hl%3Den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img2.travelblog.org/Photos/14928/75875/t/461398-And-flower-arrangement-0.jpg&amp;imgrefurl=http://www.travelblog.org/Asia/Japan/Gifu/blog-75875.html&amp;usg=__EDXtqMwCoqd1rly-G1pw_exm21Q=&amp;h=300&amp;w=225&amp;sz=10&amp;hl=en&amp;start=95&amp;um=1&amp;tbnid=j8mzYfnLj-lLiM:&amp;tbnh=116&amp;tbnw=87&amp;prev=/images%3Fq%3Dchinese%2Bflower%2Barrangement%26start%3D80%26ndsp%3D20%26um%3D1%26hl%3Den%26sa%3DN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.travelblog.org/Photos/14928/75875/t/461398-And-flower-arrangement-0.jpg&amp;imgrefurl=http://www.travelblog.org/Asia/Japan/Gifu/blog-75875.html&amp;usg=__EDXtqMwCoqd1rly-G1pw_exm21Q=&amp;h=300&amp;w=225&amp;sz=10&amp;hl=en&amp;start=95&amp;um=1&amp;tbnid=j8mzYfnLj-lLiM:&amp;tbnh=116&amp;tbnw=87&amp;prev=/images%3Fq%3Dchinese%2Bflower%2Barrangement%26start%3D80%26ndsp%3D20%26um%3D1%26hl%3Den%26sa%3D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demo2.eglobalfocus.com/sunflowergifts/images/products/jcf2s.jpg&amp;imgrefurl=http://demo2.eglobalfocus.com/sunflowergifts/exd1.asp%3Fid%3D1%26cat_id%3D1&amp;usg=__ImFeDYjDBpj6ZXy8w1bSErG3Ifs=&amp;h=341&amp;w=250&amp;sz=56&amp;hl=en&amp;start=61&amp;um=1&amp;tbnid=WhsAPo3S_iAo1M:&amp;tbnh=120&amp;tbnw=88&amp;prev=/images%3Fq%3Dchinese%2Bflower%2Barrangement%26start%3D60%26ndsp%3D20%26um%3D1%26hl%3Den%26sa%3DN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um=1&amp;tbnid=Xl2M35ydydqGxM:&amp;tbnh=78&amp;tbnw=100&amp;prev=/images%3Fq%3Dcracked%2B%2Bjug%26um%3D1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furallover.com/photo/notperfect.jpg&amp;imgrefurl=http://www.furallover.com/selectimage.asp%3Fgroup%3DSorry&amp;usg=__kYukBTiZNn0UPVJQQqDBGw0uk08=&amp;h=264&amp;w=350&amp;sz=21&amp;hl=en&amp;start=8&amp;um=1&amp;tbnid=9whHGo-1MIUOIM:&amp;tbnh=91&amp;tbnw=120&amp;prev=/images%3Fq%3Dnot%2B%2Bperfect%26um%3D1%26hl%3Den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tbnid=Xl2M35ydydqGxM:&amp;tbnh=78&amp;tbnw=100&amp;prev=/images%3Fq%3Dcracked%2Bjug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istockphoto.com/file_thumbview_approve/4705505/2/istockphoto_4705505-ceramic-jug.jpg&amp;imgrefurl=http://www.istockphoto.com/file_closeup/object/4705505-ceramic-jug.php%3Fid%3D4705505&amp;usg=__Rupu8lGZMxKXG51GlUVquCwrR2c=&amp;h=380&amp;w=253&amp;sz=39&amp;hl=en&amp;start=41&amp;tbnid=MBfVkoEM3RC4iM:&amp;tbnh=123&amp;tbnw=82&amp;prev=/images%3Fq%3Dceramic%2Bjug%26start%3D40%26gbv%3D2%26ndsp%3D20%26hl%3Den%26sa%3D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4705505/2/istockphoto_4705505-ceramic-jug.jpg&amp;imgrefurl=http://www.istockphoto.com/file_closeup/object/4705505-ceramic-jug.php%3Fid%3D4705505&amp;usg=__Rupu8lGZMxKXG51GlUVquCwrR2c=&amp;h=380&amp;w=253&amp;sz=39&amp;hl=en&amp;start=41&amp;tbnid=MBfVkoEM3RC4iM:&amp;tbnh=123&amp;tbnw=82&amp;prev=/images%3Fq%3Dceramic%2Bjug%26start%3D4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chauberger.co.uk/images/aqua/jug1.jpg&amp;imgrefurl=http://www.schauberger.co.uk/vortexjug.shtml&amp;usg=__zHVOv4pN_D5kgCvFPy_JFAIYeIg=&amp;h=480&amp;w=347&amp;sz=69&amp;hl=en&amp;start=32&amp;tbnid=I_-7Tp9MmDeeyM:&amp;tbnh=129&amp;tbnw=93&amp;prev=/images%3Fq%3Djug%2B%2Bfull%2Bof%2Bwater%26start%3D20%26gbv%3D2%26ndsp%3D20%26hl%3Den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images/2006/11/18/world/19yellow.xlarge1.jpg&amp;imgrefurl=http://www.nytimes.com/2006/11/19/world/asia/19yellowriver.html&amp;usg=__51Trv3FIlwc8jBayvNt2wyYhJC0=&amp;h=330&amp;w=600&amp;sz=50&amp;hl=en&amp;start=40&amp;tbnid=0qsw7hPiZtSWcM:&amp;tbnh=74&amp;tbnw=135&amp;prev=/images%3Fq%3Dchinese%2Bwoman%2Band%2Briver%26start%3D20%26gbv%3D2%26ndsp%3D20%26hl%3Den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fuseki.net/china/red%2520road.jpg&amp;imgrefurl=http://www.fuseki.net/china/zhuzhou.html&amp;usg=__Yu7KhEMQYakHpSLLbtSdoU6FBsM=&amp;h=682&amp;w=909&amp;sz=106&amp;hl=en&amp;start=19&amp;tbnid=RLnu0PSuJsR5AM:&amp;tbnh=110&amp;tbnw=147&amp;prev=/images%3Fq%3Droad%2Bto%2Briver%2Bchina%26gbv%3D2%26hl%3Den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verford.edu/publications/spring98/spring98images/thecrack%27djug.gif&amp;imgrefurl=http://www.haverford.edu/publications/spring98/bears.html&amp;usg=__AC2D1QunFubxSgI829XM9XtC94w=&amp;h=137&amp;w=175&amp;sz=22&amp;hl=en&amp;start=8&amp;tbnid=Xl2M35ydydqGxM:&amp;tbnh=78&amp;tbnw=100&amp;prev=/images%3Fq%3Dcracked%2Bjug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l.yimg.com/a/i/us/shine/work/glass_half_empty_200458043-001.jpg&amp;imgrefurl=http://my.opera.com/cwbywz/blog/index.dml/tag/humor&amp;usg=__TKYxT2fcHQSSckndO_b-yfVBi_U=&amp;h=425&amp;w=350&amp;sz=9&amp;hl=en&amp;start=7&amp;tbnid=KI8QSjOWHzIVYM:&amp;tbnh=126&amp;tbnw=104&amp;prev=/images%3Fq%3Dhalf%2Bempty%26gbv%3D2%26hl%3De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un.com/ChinaExperience/resource/WaterCarrier.jpg&amp;imgrefurl=http://blogs.sun.com/ChinaExperience/entry/substitute_to_pervasive_email_stories&amp;usg=__tqwFBemOxQ6fiRr_bfklD8xYEtg=&amp;h=150&amp;w=200&amp;sz=6&amp;hl=en&amp;start=6&amp;tbnid=Yfr_V05U7QQ8_M:&amp;tbnh=78&amp;tbnw=104&amp;prev=/images%3Fq%3Dperfect%2Bjug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סיפור  סי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819520"/>
            <a:ext cx="3252600" cy="35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714680"/>
            <a:ext cx="3276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שהאישה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בי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הביתה  רק כד וחצי 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35268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מובן שהכד המושלם  היה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ג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הישגים  של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52880" y="2738520"/>
            <a:ext cx="27525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 הכד  הסדוק  היא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סכן  ואומל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72880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81400" y="2838600"/>
            <a:ext cx="1801800" cy="272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3080" y="2666880"/>
            <a:ext cx="263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תביי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חוסר שלמות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581280"/>
            <a:ext cx="2666880" cy="207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5440" y="2795760"/>
            <a:ext cx="2401920" cy="307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48120"/>
            <a:ext cx="2417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בכך   שיכל לעשות רק חצי  מעבו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2895480"/>
            <a:ext cx="17384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הוא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ועד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לעש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133720"/>
            <a:ext cx="22939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8954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ום  אחד  ליד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3886200"/>
            <a:ext cx="3200400" cy="17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024360"/>
            <a:ext cx="34574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781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חרי  שנתיים  של  הרגשת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שלון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90880" y="2919240"/>
            <a:ext cx="4491000" cy="3360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971800"/>
            <a:ext cx="2590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נה  הכד 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ו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אל  האישה     ואמ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067200" cy="239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505320"/>
            <a:ext cx="1951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ישה סינית זקנה היו שני  כדים  גדו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179800"/>
            <a:ext cx="37339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ני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תביי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עצמ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2892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048120"/>
            <a:ext cx="3067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לל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ק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ב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200400"/>
            <a:ext cx="3066840" cy="23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19400" y="3062160"/>
            <a:ext cx="110520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מים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וז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כל הדרך        מ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לבית 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3886200"/>
            <a:ext cx="4267080" cy="233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אישה  הזקנ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חייכ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743200"/>
            <a:ext cx="2647800" cy="2895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743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אמרה:   האם  הבחנת    שבצד  הדרך  יש   ערוגות  של  פר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?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706920"/>
            <a:ext cx="335304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לא   הצד  השנ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3062160"/>
            <a:ext cx="3524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זה בגלל שתמיד  ידעתי  על 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פג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כן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זרעתי  זרע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בצד של הדרך של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9718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ובכל   יום   שבו   חזרנו   מהנהר   לבית   את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שק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אות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3429000"/>
            <a:ext cx="1822680" cy="2419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876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3084480"/>
            <a:ext cx="2286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משך  שנתיים  יכולתי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לקטוף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את  הפרחים היפים  האל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2438280"/>
            <a:ext cx="30258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ל אחד נתלה מקצה  מקל שהיא תלתה על הצוואר של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2860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86360" y="3214800"/>
            <a:ext cx="971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קש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את השולח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92400"/>
            <a:ext cx="4267440" cy="2900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209680"/>
            <a:ext cx="22575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ם    לא   היית   כמו   שאת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 היה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זה  שבתוך  הבי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7640" y="2876400"/>
            <a:ext cx="2586240" cy="3448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3809880"/>
            <a:ext cx="1955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כל  אחד  מאיתנו   יש  את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פג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מיוחדים  לנ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371760" cy="2630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352680"/>
            <a:ext cx="3657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   אלו    הסדקים    והפגמים   של כל אחד ואחד    מאיתנו    שעושים    את   החיים   שלנו כל כך     מעניינים    ו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ספקים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אחד  הכדים  הי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סד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5720" y="3057480"/>
            <a:ext cx="32194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בל הכד השני   היה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ושל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6640" y="3057480"/>
            <a:ext cx="3390840" cy="254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124080"/>
            <a:ext cx="187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ד 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ושל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תמיד העביר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מות מל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843280"/>
            <a:ext cx="2473560" cy="370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12920" y="2743200"/>
            <a:ext cx="2149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ה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דרך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הארוכה שבין הבית  לנה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3076560"/>
            <a:ext cx="468144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011400"/>
            <a:ext cx="27432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כד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סדו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הגיע  רק  חצי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ל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911320"/>
            <a:ext cx="3200400" cy="2495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81240" y="2828880"/>
            <a:ext cx="28861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ך זה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המשי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יום  יום  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במשך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שנתיים כשהאישה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בי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רק כד וחצי של 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05748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9:09:05Z</dcterms:created>
  <dc:creator>Preferred Customer</dc:creator>
  <dc:description/>
  <dc:language>en-US</dc:language>
  <cp:lastModifiedBy>aschlezinger</cp:lastModifiedBy>
  <dcterms:modified xsi:type="dcterms:W3CDTF">2010-04-12T17:27:50Z</dcterms:modified>
  <cp:revision>3</cp:revision>
  <dc:subject/>
  <dc:title>סיפור  סיני </dc:title>
</cp:coreProperties>
</file>